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1.gif" ContentType="image/gif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3DC-A239-47FB-A3D1-909DA914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E17-8B83-4286-A059-8997E65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C28-FD2A-4A24-9E7D-26112A61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C7E-C52A-4978-B224-3FD42238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724-65E6-4508-8DA7-3B940EE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ED3-A79D-46AC-B6DD-0FD5EE6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F50-DBE6-4B66-8FC7-09A886E8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AF8-9CB8-4957-8A45-F2C6170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522-16A8-43B3-825D-6C5685E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21F-96AD-4D8E-BFA5-4DAE94A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5B8-39A8-4EA8-AA95-C03605A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D58-3D5C-4959-8861-4D5A555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A83-05A4-4F57-A527-BA807294D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0400" y="914400"/>
            <a:ext cx="276696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sec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5638680"/>
            <a:ext cx="3562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ark Natt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982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usually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ing nea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s/wasps/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on the ground near foo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/bees flying near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kroaches/Mant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kroaches in the house and mantids on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/Mot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near flower and moths near l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6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4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8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6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16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8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92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4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88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48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24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88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sect Grup do you see m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my famerly said Bees/Wasps/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this is because there are lots of them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72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16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88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120"/>
                            </p:stCondLst>
                            <p:childTnLst>
                              <p:par>
                                <p:cTn id="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19520" y="1752480"/>
            <a:ext cx="4066920" cy="27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things are dive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larg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4952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019240" cy="51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5791320"/>
            <a:ext cx="201924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6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88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2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12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 insect grup into smaller grup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 in them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ria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lice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ra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at I put them into smaller grups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et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ty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ckroaches and Praying Mant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ps ants and b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pidopt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erflies and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2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96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36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6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2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6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1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48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72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32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4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68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d058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ptera: 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 all have wings and can f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ly’s have different numbe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gs and are different shapes and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’s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’s are different colours but usually black and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big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5105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6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8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16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2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1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76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eoptera: bee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 are round and can be big or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eetles have w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 rot="10800000">
            <a:off x="2438280" y="5257800"/>
            <a:ext cx="3810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6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16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88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720"/>
                            </p:stCondLst>
                            <p:childTnLst>
                              <p:par>
                                <p:cTn id="2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menoptera: Wasps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 and bees have stingers and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are small and usually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steal you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ps and bees are small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s have large abdo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5257800"/>
            <a:ext cx="16002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32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4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2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6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ctyoptera: Cockroaches and Praying Mant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roaches and mantids are mostly camoflauge col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 and sometimes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ids have big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5505480"/>
            <a:ext cx="241920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5224320"/>
            <a:ext cx="20574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4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6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76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76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pidoptera: Butterflies and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s and Butterflies have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s are usually camouflage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can be lots of different bright colourful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 and moths are the same kind of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have 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5425920"/>
            <a:ext cx="22100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8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44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76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6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rveying my famerly I foun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my famerly have seen all of 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s/wasps/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ids/cock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ies/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6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6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16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8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20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4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8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88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600"/>
                            </p:stCondLst>
                            <p:childTnLst>
                              <p:par>
                                <p:cTn id="4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</cp:lastModifiedBy>
  <dcterms:modified xsi:type="dcterms:W3CDTF">2009-04-27T10:14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